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13A-FA11-4810-A694-29D9C0A0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5FC1-DBF3-4616-9045-D7566FD8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2C83-082A-4B20-BE12-BB2991AB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176A-6E33-4844-9D9C-C9A75CDB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131-F6B3-420B-BA2B-C69259C4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18DC-0EAC-4ED3-97A8-7CF9F477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72B6-DAA3-473F-9350-DB9F69B0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28F-5650-473A-8680-0CFC5B80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8D2-F1CF-455D-983D-88F4991C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5FC-C846-4966-8B63-ED3B2A59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39A9-E290-42E4-8EA9-736A9E53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1B46-3C52-45B8-848E-2A25B6F8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010E-57A3-4639-93FE-37C3B13815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3600" y="1676520"/>
            <a:ext cx="512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onfounding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ers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te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32970"/>
          <a:stretch/>
        </p:blipFill>
        <p:spPr>
          <a:xfrm>
            <a:off x="1143000" y="990720"/>
            <a:ext cx="7162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762120"/>
            <a:ext cx="7467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295280"/>
            <a:ext cx="617220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00200" y="137160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00200" y="114300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447920"/>
            <a:ext cx="60958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95280"/>
            <a:ext cx="64767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9320"/>
            <a:ext cx="67057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19320" y="1228680"/>
            <a:ext cx="66294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58731"/>
          <a:stretch/>
        </p:blipFill>
        <p:spPr>
          <a:xfrm>
            <a:off x="990720" y="1905120"/>
            <a:ext cx="7238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371600"/>
            <a:ext cx="647712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143000"/>
            <a:ext cx="64767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32552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0666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731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990720"/>
            <a:ext cx="7391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6094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762120"/>
            <a:ext cx="7086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189080" y="990720"/>
            <a:ext cx="7086600" cy="4757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53080" y="5105520"/>
            <a:ext cx="16160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8T18:02:53Z</dcterms:modified>
  <cp:revision>219</cp:revision>
  <dc:subject/>
  <dc:title>Slide 1</dc:title>
</cp:coreProperties>
</file>